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7F8-C705-4CF3-A82C-D9E8D0C1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7EE-AB2B-481B-A1FD-A334EAE5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FD3-7537-4F35-A9DE-B0FAED0B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9C3-0A6C-4E6C-AB26-E891B149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739-CCF9-4239-9E5F-9D214262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F0F-02A7-40B1-9B18-A4395A3C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E53-55DF-4E55-B694-A20BF411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88A-D3DC-4888-89AD-FABC54AA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002-1E28-47EB-B2DE-07EAB4A8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D54-BEEA-477C-8CFD-53D9313E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4A2-8236-42AD-894C-67438760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F24-C0D3-4233-B9B5-7673AB87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948B-628E-4C82-AAC0-36C6DD68FA8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-77400"/>
            <a:ext cx="3024000" cy="52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ΕΠΙΜΟΡΦΩΤΙΚΟ ΣΕΜΙΝΑΡ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ΕΚΠΑΙΔΕΥΤΙΚΩΝ ΦΥΣΙΚΗΣ ΑΓΩΓ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Α/ΘΜΙΑΣ &amp; Β/ΘΜΙΑΣ ΕΚΠΑΙΔΕΥΣ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Ν. ΧΑΛΚΙΔΙΚ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Θέμα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«Μυοσκελετικές παραμορφώσεις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στη σχολική ηλικία και πω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αντιμετωπίζονται από τους Ε.Φ.Α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Τετάρτη 18 Νεμβρίου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11:45-14: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YMA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ΤΙΚΟ ΚΕΝΤΡΟ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N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ΜΟΥΔΑΝΙ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Times New Roman"/>
              </a:rPr>
              <a:t>Διοργανωτέ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Σχολικός Σύμβουλος Φυσικής Αγωγή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Δρ. Νικόλαος Οξύζογλο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Τηλ.: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23710-23620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Κιν. Τηλ: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6974128041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xyzoglou@sch.g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Γραφείο Φυσικής Αγωγή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Νομού Χαλκιδική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i="1" lang="de-DE" sz="1200" spc="-1" strike="noStrike" u="sng">
                <a:solidFill>
                  <a:srgbClr val="000000"/>
                </a:solidFill>
                <a:uFillTx/>
                <a:latin typeface="Times New Roman"/>
              </a:rPr>
              <a:t>grafa@dide.chal.sch.gr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Τηλ.</a:t>
            </a:r>
            <a:r>
              <a:rPr b="1" i="1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:  23710-225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76720" y="85320"/>
            <a:ext cx="381636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Times New Roman"/>
              </a:rPr>
              <a:t>ΠΡΟΓΡΑΜΜ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 u="sng">
                <a:solidFill>
                  <a:srgbClr val="000000"/>
                </a:solidFill>
                <a:uFillTx/>
                <a:latin typeface="Times New Roman"/>
              </a:rPr>
              <a:t>Τετάρτη 18 Νοεμβρίου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11.40 - 11.50  Προσέλευση – Εγγραφέ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11:50 - 12.00  Χαιρετισμο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12.00 - 12.30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Μπορεί ο Ε.Φ.Α. να διαπιστώσει τι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μϋοσκελετικές διαταραχές τ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μαθητών- τριών στο σχολείο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Δρ. Οξύζογλου Ι. Νικόλαο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Σχολικός Σύμβουλος Φυσικής Αγωγή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12.30 - 13.15  Μυοσκελετικά προβλήματα στ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σχολική ηλικία και η ανάγκη γι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ρθοσωματική Γυμναστική σ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σχολεί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Δρ. Κέλλης Ελευθέριος, Αν. Καθηγητή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του Α.Π.Θ.–ΤΕΦΑΑ Σερρών.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13.15 - 13.25  Διάλειμμα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13.25 - 14.00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Ασφάλεια των Αθλητικώ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εγκαταστάσεων στους σχολικο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χώρου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. Μπεμπέτσος Γεώργιος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.Φ.Α. Β/θμιας εκπ/ση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14.00 - 14.15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Συζήτηση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19280" y="4905360"/>
            <a:ext cx="3348000" cy="1957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95640" y="4869000"/>
            <a:ext cx="1728720" cy="19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43640" y="4941720"/>
            <a:ext cx="1584360" cy="1916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3-21T10:05:13Z</dcterms:modified>
  <cp:revision>11</cp:revision>
  <dc:subject/>
  <dc:title>PowerPoint Presentation</dc:title>
</cp:coreProperties>
</file>